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B61-D1B0-45FE-8769-CE9CEE43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56E-D22D-4859-A03F-66812C2A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224-5594-483B-AB05-451E7BE4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B27-1E2B-4E68-8FE3-174AB05E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3E6-6D8F-490C-AF84-3FB8510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D19-CAF9-4352-900C-76F35EC5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B20-0F36-4A0F-8727-3218F37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959-67B1-4F03-85F8-5453185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986-9568-4152-A75A-0F855811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3E2-90A0-43C8-A87E-7755073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FC9-E218-4BE4-A9CE-8F6E69C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52D-716F-400C-9C9E-737A038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12C-D3E8-4D2D-869D-129EA01A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ORE                                CRAIGMORE                               CRAIGMORE                                DUNOON  ARGYLL                        DUNOON  ARGYLL                           DUNOON  ARGYLL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T  MATILDA                             GOUROCK                                        GOUROCK                                           GOUROCK                                GOUROCK  100TH                         GOUROCK  PARK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UROCK  PARK                        GOUROCK  PARK                     GOUROCK  PARK  50TH                     GOUROCK  PARK  75TH             GREENOCK  VICTORIA                    GREENOCK  VICTOR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VENOR                                 GROSVENOR                                  GROSVENOR                                       GROSVENOR                          GROSVENOR  150TH                                    HILLEND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333360"/>
            <a:ext cx="11160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97600" y="333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93240" y="33336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04640"/>
            <a:ext cx="969840" cy="9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1800" y="2060640"/>
            <a:ext cx="106056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73240" y="1844640"/>
            <a:ext cx="9874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73360"/>
            <a:ext cx="98748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68880" y="1773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08880" y="1557360"/>
            <a:ext cx="11332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21600" y="2205000"/>
            <a:ext cx="100188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5002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5168880" y="3500280"/>
            <a:ext cx="106056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537240" y="328464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121600" y="3357720"/>
            <a:ext cx="120672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102384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013360"/>
            <a:ext cx="109692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08464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26596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084640"/>
            <a:ext cx="106056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50028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214488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608880" y="5013360"/>
            <a:ext cx="117792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3513240" y="3284640"/>
            <a:ext cx="123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1:24:07Z</dcterms:created>
  <dc:creator>JOHN YOUNG</dc:creator>
  <dc:description/>
  <dc:language>en-US</dc:language>
  <cp:lastModifiedBy>JY</cp:lastModifiedBy>
  <cp:lastPrinted>2000-05-09T17:32:06Z</cp:lastPrinted>
  <dcterms:modified xsi:type="dcterms:W3CDTF">2007-10-19T13:49:31Z</dcterms:modified>
  <cp:revision>35</cp:revision>
  <dc:subject/>
  <dc:title>No Slide Title</dc:title>
</cp:coreProperties>
</file>